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E1E-4333-428E-896C-F389B114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411-B40E-4596-91C3-EB1036EE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201-3933-4FB4-8AE2-F78BE1C5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501-41D4-4493-BAE5-3D0E9C4F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CF36-5B85-4BD9-B562-372F23C1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1C70-1548-428A-BEF0-1079875B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E126-8544-4B4D-A96C-CCB84F47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6401-4C67-4BBA-A0E7-4D361B96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E11D-C5F4-417F-BC7A-59CEA5E7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AA71-057E-4881-B034-9E9EBBFC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02DD-2FC8-41A4-A21B-8231C3CC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3F5-9F00-4205-B287-B47C6868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015E-F3F7-4D60-A53D-133AFC4F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89A6-B30C-4442-8DA2-B4AC4A7B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0F06-6BDF-4235-AF89-44FED675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1B25-3437-4F5C-9811-775224D2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03C6-64F3-47AE-A230-1804658D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2CB-DE8F-4495-9FAF-5CBD5C39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451-F5BD-4A78-8951-15061E05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DE6-CD02-4AB8-AC26-2D68CE1A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722-1EBA-4727-AB53-C79B04BC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02C-0CF8-481E-A2D7-C18124EF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BB4-EF7F-4002-9C76-B53B80C3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C98-335F-4C5A-A019-59C8A4A1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5649-14A7-4B88-BAB7-6AEA8FC1F4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6DD4-7E88-4AF6-9969-DAD28407BC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432160"/>
            <a:ext cx="715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WTÓRZENIE WIADOMOŚ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POMNIENIE WIERSZYKA</a:t>
            </a:r>
            <a:br>
              <a:rPr sz="3000"/>
            </a:b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 I BUDOWY UŁAM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57360" y="1494000"/>
            <a:ext cx="40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estem sobie kreską ułamk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 dzielenia wciąż got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cznik stoi nade mn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nownik pode m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2880" y="2708280"/>
            <a:ext cx="7809120" cy="1665000"/>
            <a:chOff x="542880" y="2708280"/>
            <a:chExt cx="7809120" cy="16650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4165560" y="2708280"/>
                  <a:ext cx="1036800" cy="16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5697360" y="2933640"/>
              <a:ext cx="211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icznik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ułamk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95920" y="3743280"/>
              <a:ext cx="265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ianownik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ułamk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2880" y="3292200"/>
              <a:ext cx="348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kreska ułamkow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zastępująca znak dzielen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65560" y="3157560"/>
              <a:ext cx="58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57720" y="3968640"/>
              <a:ext cx="49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46640" y="3608280"/>
              <a:ext cx="585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557360" y="4508640"/>
            <a:ext cx="71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skazuje na ile części została podzielona cał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ówi nam, ile części wyróżni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resk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owa zastępuje dzie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łame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est inną formą zapisania dziel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46640" y="5904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łam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32400" y="5815080"/>
                <a:ext cx="1434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KRACANIE I ROZSZERZANIE UŁAM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6640" y="1133640"/>
            <a:ext cx="80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Aby skrócić ułamek należy licznik i mianownik ułamk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odzieli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z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ą sam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czb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0" y="3732120"/>
            <a:ext cx="78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by rozszerzyć ułamek należy jego licznik i mianowni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mnoży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zez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ą sam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czb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681280" y="1989000"/>
                <a:ext cx="383868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: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: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51280" y="4597560"/>
                <a:ext cx="3405240" cy="14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ŁAMKI WŁAŚCIWE, UŁAMKI NIEWŁAŚCIWE I LICZBY MIESZ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57360" y="1576440"/>
            <a:ext cx="69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łamki właściw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ają licznik mniejszy od mianow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57360" y="3159000"/>
            <a:ext cx="66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łamki niewłaściw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ają licznik większy od mianow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57360" y="4592520"/>
            <a:ext cx="73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iczby miesza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zbudowana jest z liczby naturalnej i uła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672000" y="3567240"/>
                <a:ext cx="21477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44880" y="5072040"/>
                <a:ext cx="34621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672000" y="2035080"/>
                <a:ext cx="21826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842000" y="5668920"/>
            <a:ext cx="211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 większym iloczynie szukamy licznika ułam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RÓWNYWANIE UŁAM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1179360"/>
            <a:ext cx="65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Porównywanie ułamków o jednakowych li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6640" y="275436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równywanie ułamków o jednakowych mianow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2000" y="4183200"/>
            <a:ext cx="63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orównywanie ułamków o różnych mianownikach – metoda mnożenia „na krzyż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57360" y="17524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 dwóch ułamków o tych samych licznikach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iększ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jest ten, który m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niejszy mianow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46280" y="3249720"/>
            <a:ext cx="56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 dwóch ułamków o jednakowych mianownikach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iększ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jest ten, który m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iększy licz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686640" y="1898640"/>
                <a:ext cx="67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642000" y="3519360"/>
                <a:ext cx="630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767720" y="5443560"/>
                <a:ext cx="765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7" name=""/>
          <p:cNvGrpSpPr/>
          <p:nvPr/>
        </p:nvGrpSpPr>
        <p:grpSpPr>
          <a:xfrm>
            <a:off x="1512720" y="5138640"/>
            <a:ext cx="1753920" cy="990360"/>
            <a:chOff x="1512720" y="5138640"/>
            <a:chExt cx="1753920" cy="99036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777040" y="5138640"/>
                  <a:ext cx="48960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512720" y="5138640"/>
                  <a:ext cx="55152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 flipV="1">
              <a:off x="2064240" y="5400360"/>
              <a:ext cx="800640" cy="468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64240" y="5400360"/>
              <a:ext cx="751320" cy="522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51280" y="5094360"/>
            <a:ext cx="20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· 22 = 15 · 16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 = 24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 &lt; 24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630864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· 22 = 15 ·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58080" y="553392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ą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ODAWANIE I ODEJMOWANIE UŁAMKÓW ZWYKŁ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1640" y="108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2000" y="1538280"/>
            <a:ext cx="76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dawani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aby dodać ułamki o tych samych mianownikach dodajemy liczniki, a mianownik pozostaje bez zm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50920" y="3699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dejmowani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aby odjąć ułamki o tych samych mianownikach odejmujemy liczniki, a mianownik pozostaje bez zm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32000" y="2347920"/>
                <a:ext cx="3060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997360" y="4527720"/>
                <a:ext cx="34192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KOŃ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57360" y="2079720"/>
            <a:ext cx="512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już koniec przygody z ułam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otkamy się, gdy będziecie piąta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eszcze więcej się dowie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i tak już dużo umie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92720" y="3203640"/>
            <a:ext cx="2087640" cy="2087640"/>
            <a:chOff x="5292720" y="3203640"/>
            <a:chExt cx="2087640" cy="2087640"/>
          </a:xfrm>
        </p:grpSpPr>
        <p:graphicFrame>
          <p:nvGraphicFramePr>
            <p:cNvPr id="174" name=""/>
            <p:cNvGraphicFramePr/>
            <p:nvPr/>
          </p:nvGraphicFramePr>
          <p:xfrm>
            <a:off x="6188040" y="3203640"/>
            <a:ext cx="119232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88040" y="3203640"/>
                      <a:ext cx="119232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292720" y="3564000"/>
              <a:ext cx="990720" cy="73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11:54Z</dcterms:modified>
  <cp:revision>57</cp:revision>
  <dc:subject/>
  <dc:title>Slajd 1</dc:title>
</cp:coreProperties>
</file>